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A6E-BD8E-4DC7-8987-1EA65D48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5BF-F249-4681-AB09-261A69D9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3BAB-B706-4C76-92CC-A47B7117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4F5B-DE59-4580-A839-C49C6935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1BDD-36A5-4C7C-A2B4-23A41FEA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4F60-94A7-4D37-81AF-F8CD4FA9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87AD-5442-4028-98EC-A3197F70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9361-0046-4CD1-A533-4DAC4DA9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379E-62A7-49AA-A72C-A1DAA725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15F1-D54B-4829-9172-89FCF9D8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B0CC-67AA-4625-88EA-F26DBCE2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E025-8634-4EB1-8E34-8ED2EE23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C968-9CD5-48AD-B380-822FFFB0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6F03-D684-43A4-BAAE-C28101E7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739D-A6E6-4262-83FF-685BE098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1D96-AFFD-493C-BA5D-71C52303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483C-D9D9-478B-B44D-6CF0A354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6E3-61E3-4C8C-AC20-30F29DF3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BFD-17AB-4EC1-8532-C65A1866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E3D-0607-4F26-96E4-E4E3BE15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B41-DF13-4337-8341-7AE7C36D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E43-43C6-48D9-93BB-B1065B9F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72C3-9DE2-4248-8A13-1B67E5B6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7CF-A10B-4FA4-9C05-03E077A7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1C9D75-6D39-4A5B-8796-9993534C7F1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FC414D-F548-4B14-B8CE-4154AABD868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928880" y="2357280"/>
            <a:ext cx="52858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Заголовок 1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me Facts About British Newspa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одержимое 2"/>
          <p:cNvSpPr/>
          <p:nvPr/>
        </p:nvSpPr>
        <p:spPr>
          <a:xfrm>
            <a:off x="457200" y="1268280"/>
            <a:ext cx="82292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7000"/>
          </a:bodyPr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iest known newspaper of British origi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Oxford Gazet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166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newspapers are divided into three sectors: Quality Press, Middle-Market Press, Red-Top Tabloids (Popular P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Great Britain there are 3 formats of newspapers: Broadsheet, Berliner, Comp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newspapers divided into Daily and Su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Овал 1"/>
          <p:cNvSpPr/>
          <p:nvPr/>
        </p:nvSpPr>
        <p:spPr>
          <a:xfrm>
            <a:off x="2123640" y="0"/>
            <a:ext cx="4536000" cy="1944000"/>
          </a:xfrm>
          <a:prstGeom prst="ellipse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chemeClr val="lt1"/>
                </a:solidFill>
                <a:latin typeface="Calibri"/>
              </a:rPr>
              <a:t>Quality Pr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Прямая со стрелкой 2"/>
          <p:cNvCxnSpPr/>
          <p:nvPr/>
        </p:nvCxnSpPr>
        <p:spPr>
          <a:xfrm flipH="1">
            <a:off x="900000" y="1341360"/>
            <a:ext cx="1368720" cy="71928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88" name="Овал 3"/>
          <p:cNvSpPr/>
          <p:nvPr/>
        </p:nvSpPr>
        <p:spPr>
          <a:xfrm>
            <a:off x="0" y="2061000"/>
            <a:ext cx="3275640" cy="1151640"/>
          </a:xfrm>
          <a:prstGeom prst="ellipse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chemeClr val="lt1"/>
                </a:solidFill>
                <a:latin typeface="Calibri"/>
              </a:rPr>
              <a:t>Broad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Прямая со стрелкой 4"/>
          <p:cNvCxnSpPr/>
          <p:nvPr/>
        </p:nvCxnSpPr>
        <p:spPr>
          <a:xfrm>
            <a:off x="4284360" y="1989000"/>
            <a:ext cx="360" cy="237672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90" name="Овал 5"/>
          <p:cNvSpPr/>
          <p:nvPr/>
        </p:nvSpPr>
        <p:spPr>
          <a:xfrm>
            <a:off x="2555640" y="4437000"/>
            <a:ext cx="3384000" cy="1007640"/>
          </a:xfrm>
          <a:prstGeom prst="ellipse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chemeClr val="lt1"/>
                </a:solidFill>
                <a:latin typeface="Calibri"/>
              </a:rPr>
              <a:t>Berli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6"/>
          <p:cNvCxnSpPr/>
          <p:nvPr/>
        </p:nvCxnSpPr>
        <p:spPr>
          <a:xfrm>
            <a:off x="6372000" y="1484280"/>
            <a:ext cx="1224360" cy="72108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92" name="Овал 7"/>
          <p:cNvSpPr/>
          <p:nvPr/>
        </p:nvSpPr>
        <p:spPr>
          <a:xfrm>
            <a:off x="6119640" y="2349000"/>
            <a:ext cx="3024000" cy="1007640"/>
          </a:xfrm>
          <a:prstGeom prst="ellipse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chemeClr val="lt1"/>
                </a:solidFill>
                <a:latin typeface="Calibri"/>
              </a:rPr>
              <a:t>Co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0" y="3500280"/>
            <a:ext cx="313164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ily Tele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nda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2771640" y="5805360"/>
            <a:ext cx="295236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uar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b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8"/>
          <p:cNvSpPr/>
          <p:nvPr/>
        </p:nvSpPr>
        <p:spPr>
          <a:xfrm>
            <a:off x="6407280" y="3573360"/>
            <a:ext cx="2736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Скругленный прямоугольник 1"/>
          <p:cNvSpPr/>
          <p:nvPr/>
        </p:nvSpPr>
        <p:spPr>
          <a:xfrm>
            <a:off x="2699640" y="260640"/>
            <a:ext cx="3960000" cy="93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Calibri"/>
              </a:rPr>
              <a:t>Middle-Mar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Соединительная линия уступом 2"/>
          <p:cNvCxnSpPr/>
          <p:nvPr/>
        </p:nvCxnSpPr>
        <p:spPr>
          <a:xfrm flipV="1" rot="10800000">
            <a:off x="1834920" y="1196640"/>
            <a:ext cx="1153080" cy="1511640"/>
          </a:xfrm>
          <a:prstGeom prst="bentConnector2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98" name="Соединительная линия уступом 3"/>
          <p:cNvCxnSpPr/>
          <p:nvPr/>
        </p:nvCxnSpPr>
        <p:spPr>
          <a:xfrm>
            <a:off x="6372000" y="1196640"/>
            <a:ext cx="1224360" cy="1511640"/>
          </a:xfrm>
          <a:prstGeom prst="bentConnector2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99" name="Скругленный прямоугольник 4"/>
          <p:cNvSpPr/>
          <p:nvPr/>
        </p:nvSpPr>
        <p:spPr>
          <a:xfrm>
            <a:off x="395640" y="2853000"/>
            <a:ext cx="3168000" cy="79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Calibri"/>
              </a:rPr>
              <a:t>Da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5724000" y="2925000"/>
            <a:ext cx="3168000" cy="79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Calibri"/>
              </a:rPr>
              <a:t>Su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68360" y="4149720"/>
            <a:ext cx="287928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ily 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ily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5724360" y="4221000"/>
            <a:ext cx="309528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nday 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il on Su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Заголовок 1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most famous British newspapers a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2" spcCol="0"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1" action="ppaction://hlinksldjump"/>
              </a:rPr>
              <a:t>The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2" action="ppaction://hlinksldjump"/>
              </a:rPr>
              <a:t>The Independ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3" action="ppaction://hlinksldjump"/>
              </a:rPr>
              <a:t>The Guard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4" action="ppaction://hlinksldjump"/>
              </a:rPr>
              <a:t>The Daily M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5" action="ppaction://hlinksldjump"/>
              </a:rPr>
              <a:t>The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6" action="ppaction://hlinksldjump"/>
              </a:rPr>
              <a:t>S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7" action="ppaction://hlinksldjump"/>
              </a:rPr>
              <a:t>The Daily Exp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8" action="ppaction://hlinksldjump"/>
              </a:rPr>
              <a:t>The Ob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9" action="ppaction://hlinksldjump"/>
              </a:rPr>
              <a:t>The Sunday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121</Words>
  <Paragraphs>36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6T22:16:52Z</dcterms:created>
  <dc:creator>comp001</dc:creator>
  <dc:description/>
  <dc:language>en-US</dc:language>
  <cp:lastModifiedBy>comp001</cp:lastModifiedBy>
  <dcterms:modified xsi:type="dcterms:W3CDTF">2013-05-26T22:25:53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